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74B-84B6-42AB-94D1-593B2BE1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B90-DC94-44EC-A26D-34EF0D6B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8C90-E658-48A0-85B9-228D9A4B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449-4422-4B44-9F85-E045C44B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7D88-DF66-4527-867F-6CFE7D34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1F16-B39E-4299-AA2D-C61A6D26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4F37-5A8F-4AED-B741-24956795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D756-3DC7-48F6-94CA-729EB327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3EE6-ED90-4A8B-A437-1749A5AA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C416-7E27-4E49-B63C-02DFF603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FC14-7AB1-4468-B6D4-208A1307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E35-6FA5-4563-A481-7B63464F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774B-3CCA-4CD0-ABF7-53C8B701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6042-D7C7-47E3-9FA4-561228EC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850D-EDEA-4C5A-8DD7-7E763F6D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261E-1B5A-485C-AA73-D417CDA2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6840-C176-422D-A6E4-B3BD0459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5C0-B43B-4FD1-AB79-2B185AB8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3A4-94D6-42B7-B0F7-B64DF59A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1E6-31B9-4734-BCAC-6D2E63DD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F00-3C0F-4116-8B5B-35CCCD53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840-5483-49CB-8347-FC2AF5FB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E6D-FB6C-4681-896D-99F52C37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36FB-E0D8-49AF-BF08-810B6506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140D-B4BD-4956-89E1-BCBAD1B965A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0C29-B509-49D2-97E8-3B6180793F4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752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626000"/>
                </a:solidFill>
                <a:latin typeface="Garamond"/>
              </a:rPr>
              <a:t>Do Now 8-25-2010</a:t>
            </a:r>
            <a:br>
              <a:rPr sz="4300"/>
            </a:br>
            <a:r>
              <a:rPr b="1" lang="en-US" sz="4300" spc="-1" strike="noStrike">
                <a:solidFill>
                  <a:srgbClr val="626000"/>
                </a:solidFill>
                <a:latin typeface="Garamond"/>
              </a:rPr>
              <a:t>I can use reading strategies and respond critically to literature by using text evidence.</a:t>
            </a:r>
            <a:endParaRPr b="0" lang="en-US" sz="4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297180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NSWER THE FOLLOWING QUESTION IN COMPLETE SENTENC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700" spc="-1" strike="noStrike">
                <a:solidFill>
                  <a:srgbClr val="000000"/>
                </a:solidFill>
                <a:latin typeface="Verdana"/>
              </a:rPr>
              <a:t>When you read, what do you do in order to comprehend text?  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ading Strategy Jigsa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 your partner, read the passage and do what the slip of paper instructs you to do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you finish the task on your paper, talk with your partner about what you think the author is implying.  In other words,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What message is the author trying to get acros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dependent Read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 the rules of Reading Workshop as you read independent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r today you will practice writing a response on the wiki.  Think about wha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rateg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you will practice.  Maybe use post-it notes to hold your think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 Response Practi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the link titled “Homework Discussion Response Practice,” practice writing a response based on your OWN INDEPENDENT READING BOOK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any strateg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 outline and examples I gave you to guide your respon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1:09:30Z</dcterms:created>
  <dc:creator>Administrator</dc:creator>
  <dc:description/>
  <dc:language>en-US</dc:language>
  <cp:lastModifiedBy>Administrator</cp:lastModifiedBy>
  <dcterms:modified xsi:type="dcterms:W3CDTF">2010-08-25T02:58:16Z</dcterms:modified>
  <cp:revision>2</cp:revision>
  <dc:subject/>
  <dc:title>Do Now 8-25-2010 I can use reading strategies and respond critically to literature by using text evidence.</dc:title>
</cp:coreProperties>
</file>